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314-046F-4690-B328-FD6D3717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37A-03D5-40DF-8525-F01D29A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17B-ED56-4757-8DFB-166F56E6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860-6462-4D54-AB20-F8A11CEA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6A45-36CF-44C7-8BBB-0EDC0B21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006B-0C43-4A9D-874C-8EB7E703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14C0-CC22-420E-A8CE-AC92F7B8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E0B-6609-4C28-96B5-0336D70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A3F9-A32B-48D2-BC74-E001F0E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C43E-819B-4147-9214-A10066EC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B79C-52AE-4FA0-AD30-1C14B24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CBA-0C03-4E2D-BE51-992E5187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5D3-BE6A-43A8-B912-3B1FBC36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AD45-4312-4B59-8A0B-9B5D7E1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07BA-BA85-4702-BFB9-07FBC42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4BCD-F89A-46A3-9A3F-5E7AFE3E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E520-4738-4637-90DC-9B92AAF3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E3F5-99F1-46F1-8489-8067675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AE31-C757-44FB-845F-9E4A5BBE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BF39-A2A0-4E2C-8E1E-5F9289E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23CB-857C-462E-B952-A04CDACE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C11F-9CEE-4161-A984-6B0CF7C1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D47-36D8-4C35-B398-1DBA810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3489-D1B4-4017-81F6-C8065869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954F-6A79-4391-A561-D6F5169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29FE-F0C3-4340-AF1A-DF1D6532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C644-E9E4-4AC7-8A5B-D66BB0A8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F241-04AA-4D60-87D2-37AC6886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BA4F-8200-4727-A688-0333A44C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B7EC-7129-46D8-A292-F79CD15A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6A7A-B7A6-4025-9ADB-C389ADED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A1FF-13D2-491B-B1FB-024E34A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298C-0C88-4D85-B69F-CE4F8815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55E-B078-47AD-BCE5-EAE0420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EEF4-0031-4D78-9D8C-19919EF6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2728-B5F4-428A-B6F8-AEFDC32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EBFC-94F9-4852-B60D-F17C05E4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9671-C1D8-4BA7-9123-1C7AC3A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66F7-11B8-491F-88D6-8856046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ED11-8F2C-4ADA-9058-72EBCCB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DB37-D119-4309-A66A-BBCD059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3395-2121-4568-9ECD-58A949F2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B953-C71E-49AD-BB26-A23895CB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1BCE5-2D3A-4B00-8E5C-9EF719A6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EF9-8A07-437F-B7F3-B69662C1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A8351-682D-42A6-8706-BF94553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F2EC-2E3C-46B4-B9B0-5AA6E38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CC56-1BEE-46E9-9B95-1A86BFFD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6F13-1D50-4877-BB3A-FAB355C7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3594-0689-4739-A05F-7E26BD7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6EE45-27F6-4F4E-90ED-B5444D4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4550-010D-466D-9E0E-677EFD85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4AB5-2A9F-49C8-85A5-E590CB0B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8793-7FA5-4836-8B15-C9C0754B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6C97-D9F1-421D-9CFE-DCDDACF2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D4D-63BB-4022-BECD-8FDCC252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2279-64F9-42EE-8CD2-9FBB8DA6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41DEF-E5D4-4FD7-90AD-3FED9D45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D8151-E91D-41CD-8041-22191FA2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8B301-C396-482A-88EC-E2F488EC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97C0D-0DA9-40B8-90EF-7BFCD3F3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F962-955A-45BB-BE3E-4DE19C1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A7FD-44C0-4184-B191-952B05A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F9A0-377D-4B68-A435-1607283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7C6E1-6FB1-4E30-BA4D-C51D2AE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0086E-FC07-4F6E-B797-9B39FC7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20E-1B97-49AD-A16A-463B554D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1119-6A37-45B5-B6E2-FCC6BC1C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EFB4A-7793-4027-A512-CEEF9319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5CFC-194F-47D9-B277-4DECA39F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0C533-92B0-4E43-8B66-1F2FB885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22D0-075A-4BA1-B8D4-B8CC709D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D83E-8833-4096-B74E-BF5161E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FBC94-0569-4337-858E-0060C65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2EDD-601F-4A94-B2C8-ECE47BB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D42C9-0A65-405D-832A-A468FA0B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9DBFD-7CFE-4B4E-AE2C-C879CF5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768-6D60-4566-B8E5-C794D0B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363F-2675-4945-BDA3-F36DFC6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A9EE7-712D-458C-80EC-22AA0A01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4C9F-F4DE-4FFF-92F8-023BE257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21FBF-3DFB-41B4-A0B8-C6227747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EDBDF-869B-4286-A2E9-8B65DF8F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412-B337-42D9-952F-22E55A8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130C-7BA7-4E42-8357-DA335C30743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B5A2-BA5C-44EE-AB34-916597B9DC4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C21E-F23A-44CA-B6B0-FCBB0AF4043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B97D-077E-4102-8854-C1B097D519E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7199-E79C-4F4C-99E4-ABB8D5FD559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A52-B1DC-48F3-902D-0E1A57E049A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5920-DA03-45CA-916B-3A64E71CAB0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560520" y="974880"/>
            <a:ext cx="8175600" cy="4292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Gladys Martínez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AP Literatura  Avanzada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4 de Diciembre del 2008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3059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Quéjase de la suerte: insinúa su aversión a los vicios, y justifica su divertimiento a las Musas (“En perseguirme, Mundo, ¿qué interesas?”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soneto es una combinación de catorce versos, los cuales están estructurados en dos cuartetos seguidos por dos terceto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esquema de la rima más general es ABBA, ABBA, CDC, DCD, aunque son posibles otros esquem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femin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Crítica a la superficialidad de la socied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intelec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atíric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 del Sonet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Poema cuenta como Sor Juana responde al ataque  de la sociedad Mexicana de esa época. Es expresado lo difícil que es ser mujer en este espacio y este tiempo. En este soneto, Sor Juana se queja de la falta de comprensión de que es objeto, y defiende su pasión por la poesía, y su ardor por los estudi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Ambien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iglo XV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144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orbel"/>
              </a:rPr>
              <a:t>Sátira filosófica: arguye de inconsecuencia el gusto y la censura de los hombres que en las mujeres acusan lo que causan  (“Hombres necios que acusáis”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6094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erie de redondilla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(cuatro versos de ocho 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  con la rima  abba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: Ocho sílabas  en cada verso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Rima:  Rima perfecta, con el esquema ab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    a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             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 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            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Versos agudos: el verso agudo (termina con palabra aguda y el acento tónico cae en la última síla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rbel"/>
              </a:rPr>
              <a:t>Rima asonant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DA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Hablant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ablante líric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udienci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ombres neci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Poesía : Hombres Necios que Acusá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Fecha de la poesía: 166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diferencia entre los roles sociales de los hombres y las muje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injustic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xpectativas soci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mach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Feminism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9" descr=""/>
          <p:cNvPicPr/>
          <p:nvPr/>
        </p:nvPicPr>
        <p:blipFill>
          <a:blip r:embed="rId1"/>
          <a:stretch/>
        </p:blipFill>
        <p:spPr>
          <a:xfrm>
            <a:off x="0" y="228600"/>
            <a:ext cx="4576680" cy="5113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http://span3per1.files.wordpress.com/2008/04/sor-juana-retrato.gif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siona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electua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n el poema, la voz poética reprocha a los hombres su actitud ante las mujeres. Sor Juana satiriza las relaciones entre hombres y las mujeres, exponiendo a su burla la falta de lógica del hombre que acusa a la mujer del comportamiento que él mismo provoca en ell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Alejandro Soriano Vallés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quella Fénix más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rara. Vida de Sor Juana Inés de la Cruz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éxico, Nueva Imagen, 200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Juana Inés dela Cruz, Sor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Poesía lírica.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Edición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José Carlos González Boixo. Madrid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ones Cátedra, 199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ón digital a partir de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nales de Literatura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Española,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núm. 13 (1999), Alicante,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Universidad, Departamento de Literatura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spañola, pp. 85-105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Friedman, Edward, Valdivieso, L., y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Virgillo, Carmelo.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Aproximaciones al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estudio de la literatura hispánica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. (20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La Cruz, Juana I. "Sátira filosófica: arguy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inconsecuencia el gusto y la censura d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los hombres que en las mujeres acusan lo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que causan  (“Hombres necios que acusáis”)."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Vol. 1. Evanston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cDougal Littell Incorporated, 2003. 378-81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De La Cruz, Juana I. "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Quéjase de la suerte: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sinúa su aversión a los vicios, y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justifica su divertimiento a las Musas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(“En perseguirme, Mundo, ¿qué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teresas?”)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"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 Vol. 1.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vanston: McDougal Littell Incorporated,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2003. 377-78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¿Sor Juana Inés de la Cruz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295280"/>
            <a:ext cx="7772400" cy="518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Corbel"/>
              </a:rPr>
              <a:t>Juana Inés de Asbaje y Ramírez de Santill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Nacida el 12 de noviembre de 1651, en el pueblo de San Miguel Nepantl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autodidacta, humanista, gran poeta mexic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hija de criolla Isabel Ramírez de Santillana y el vizcaíno Pedro Manuel de Asbaje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Inteligencia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rte virreinal : dama de la virreina Doña Leonor Carreto, Marquesa de Mancer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nvento de San José de Carmelitas Descalzas en el 14 de agosto 1667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Enclaustramiento vs. Matrimon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dedicación al estud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Murió: Ciudad de México,  1695- por una epidemia el 17 de abril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Curiosidad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1eeff"/>
                </a:solidFill>
                <a:latin typeface="Corbel"/>
              </a:rPr>
              <a:t>aparece en los billetes mexicanos de alta denominació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reció en los mil pesos (con inflación terminaron volviéndose monedas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or Juana salió de circulación brevemente, para reaparecer en los billetes de dosciento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1eeff"/>
                </a:solidFill>
                <a:latin typeface="Consolas"/>
              </a:rPr>
              <a:t>Las obras po</a:t>
            </a:r>
            <a:r>
              <a:rPr b="0" lang="es-MX" sz="3600" spc="-1" strike="noStrike">
                <a:solidFill>
                  <a:srgbClr val="c1eeff"/>
                </a:solidFill>
                <a:latin typeface="Consolas"/>
                <a:ea typeface="Arial"/>
              </a:rPr>
              <a:t>éticas de Sor Juana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</a:rPr>
              <a:t>Inundaci</a:t>
            </a: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ón castálid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89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Segundo volumen de la obra de Sor Juana Inés de la Cruz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91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Fama y obra póstuma del Fénix de México, Décima Mus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700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OVIMIENTO LITERARI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Barroco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ovimiento artístico y cultural extendido por toda Europa y que entraña una evolución de las ideas del Renacimiento, que supone cambios drásticos en la forma de pensar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ovación de técnicas y de esti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zclando estrofas tradicionales con las nuevas, así cultivaron el terceto, el cuarteto, el soneto y la redondill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ASES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anierismo (1520 - 1560): Se caracteriza por la desintegración del Renacimiento. Es un estilo de crisis, desproporcionado, con exceso de ornamentación, intelectualista. Es la primera fase del Barroco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(1620 - 1680): Es el estilo de la Contrarreforma. Se da una exageración de las características del manierismo sin proponer nuevas form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tardío (1680 – 1700): Se caracteriza por un retorno al clasicismo que llevará al Neoclasicismo, es de nuevo un episodio de desintegración, en este caso de las formas barroc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ENOMENO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ULTERANISMO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Predomina la poesí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ueva la sintaxis; las ideas no cambi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Originalidad de la palabr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Valores del renacimien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táforas brillantes Góngora el mayor expedien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IGURA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ntíte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Metáfo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Retruécan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ostrof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ircunlocució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24:41Z</dcterms:created>
  <dc:creator>Gladys Mabel Martiez</dc:creator>
  <dc:description/>
  <dc:language>en-US</dc:language>
  <cp:lastModifiedBy>Gladys Mabel Martiez</cp:lastModifiedBy>
  <dcterms:modified xsi:type="dcterms:W3CDTF">2008-12-04T19:07:58Z</dcterms:modified>
  <cp:revision>64</cp:revision>
  <dc:subject/>
  <dc:title>Slide 1</dc:title>
</cp:coreProperties>
</file>